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603-0D85-4E12-A4AD-408039C6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BF7-C011-4D50-83B9-45DEEF5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416-87FC-44AE-A1B0-D07CB160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5BF-2F30-4DAF-B68E-A2B096E0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5A5A-35AC-40DC-9542-5D0EC922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E4A0-1170-4E3C-A529-7A3CEFAF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67F4-DAD8-4765-A52E-F1976B03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1D30-E33D-4DAA-96C9-1822915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1C00-2D5F-4486-8627-07572229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1E4-081A-42F0-88F5-02C4806F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B04E-5EE6-4450-AB38-14B6821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93D-E8B9-4BE7-88FD-5B7524A2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2B97-D982-406B-A975-731708E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CF07-DC01-4550-A404-19E941E4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CC3E-47EB-4EDD-A50B-6926CCAF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0ACF-267D-4E84-B426-94B46BDC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57BB-6D5E-416D-A646-70061F81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DEC-A670-469B-815C-2DDFA4C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ED6-6C2C-4C58-AC0F-FA7FF8D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41C-D947-4318-8862-1E17D5BF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B40-F6C1-4C3B-80DC-0AD64991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30D-10CC-42C9-8787-6985390B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2A1-9F87-41ED-A74F-161077E5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19F-4C1D-4DEF-9895-E0FB96E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CF5C-D45E-4F42-82BC-01ABBDA1E53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AB81-B96D-4162-8213-1E641257425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880" y="3049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nstantia"/>
              </a:rPr>
              <a:t>ARD Documentation Material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nstantia"/>
              <a:ea typeface="Constantia"/>
            </a:endParaRPr>
          </a:p>
        </p:txBody>
      </p:sp>
      <p:sp>
        <p:nvSpPr>
          <p:cNvPr id="193" name=""/>
          <p:cNvSpPr/>
          <p:nvPr/>
        </p:nvSpPr>
        <p:spPr>
          <a:xfrm>
            <a:off x="174240" y="1447920"/>
            <a:ext cx="754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Present Levels of Functional &amp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Academic Performance (Yellow Page)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3360" y="2590920"/>
            <a:ext cx="761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  Texas Assessment Program Decision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6400" y="3733920"/>
            <a:ext cx="616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AKS-M Decision 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8480" y="4403880"/>
            <a:ext cx="635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  TAKS-Alt Decision 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680" y="5165640"/>
            <a:ext cx="7927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New Classroom Accommodation Sheet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as of January 2011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2280" y="1295280"/>
            <a:ext cx="7620120" cy="5562720"/>
          </a:xfrm>
          <a:prstGeom prst="rect">
            <a:avLst/>
          </a:pr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48600" y="228600"/>
            <a:ext cx="7247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Present Levels of Functional &amp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Academic Performance (Yellow Page)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1371600"/>
          <a:ext cx="7391520" cy="55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739152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-48600" y="228600"/>
            <a:ext cx="7247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Present Levels of Functional &amp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Academic Performance (Yellow Page)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80000" y="1447920"/>
            <a:ext cx="825948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Given to core teachers prior to AR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</a:t>
            </a:r>
            <a:r>
              <a:rPr b="1" lang="en-US" sz="3000" spc="-1" strike="noStrike" u="sng">
                <a:solidFill>
                  <a:srgbClr val="2f1311"/>
                </a:solidFill>
                <a:uFillTx/>
                <a:latin typeface="Book Antiqua"/>
              </a:rPr>
              <a:t>Required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documentation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Critical that it is filled out prior to AR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Send to Jenni before ARD or send with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tribe representative scheduled to attend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AR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Cannot make informed decisions without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without teacher input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205920" y="1447920"/>
            <a:ext cx="8469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Must be filled out for ALL SpEd students: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Accommodated and Modifie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Determines if students meet the eligibility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criteria for proposed accommodations i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the Accommodations Manual: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Spelling List (p.23) – memory retriev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Calculator (p. 24) – mathematics calcula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Supplemental Aid (p.25) – memory retriev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Graphic Organizer (p. 25) – memory retriev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75240" y="152280"/>
            <a:ext cx="761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exas Assessment Program Decision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182160" y="1519200"/>
            <a:ext cx="83066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1.  Dr. Merenova confirms criteria by checking form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esting document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2.  If Merenova signs off, the administrator mus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confirm criteria to see if accommodation mee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state/local criteria (use Accommodation Manual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3.  If administrator signs off, the teacher provid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imperical data (before and after) to show nee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4.  Teacher provides evidence (work samples, grades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etc.) that show regular classroom us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5.  Accommodation is documented in IEP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75240" y="152280"/>
            <a:ext cx="761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exas Assessment Program Decision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369360" y="685800"/>
            <a:ext cx="846072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For EVERY student that is schedule to take TAKS-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1.  Currently receiving SpEd servi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Disability significantly affects academic progress i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   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grade-level curriculu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Not based solely on disability category or placemen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Decided by the ARD Committee (not by administrator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2.  IEP reflects access to the grade-level TEKS, includi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modifications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and accommodations, that the studen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uses during instruction and assessment.</a:t>
            </a:r>
            <a:r>
              <a:rPr b="1" lang="en-US" sz="22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(modifications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       </a:t>
            </a: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practices and procedures that change the nature of the task or skill)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3.  Data supports need for modified instruction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(state assessments, formal and informal assessments, norm-referenced tests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        </a:t>
            </a: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and criterion referenced tests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4.  Meets some BUT NOT ALL of the TAKS-Alt criter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5.  ARD Committee decides that even with allowabl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Accommodations, the student is unable to participate i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AKS or TAKS-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800" y="152280"/>
            <a:ext cx="616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AKS-M Decision 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-390600" y="609480"/>
            <a:ext cx="861444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For EVERY student that is schedule to take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TAKS-M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or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TAKS-Al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1.  Currently receiving SpEd servi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he most significant cognitive disabiliti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Unable to participate in other statewide assessments even with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substantial accommodations and/or modification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2.  Requires specialized academic help as well throughout the da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in areas such as:  (see TAKS-Alt Tool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3.  Requires direct, intensive, individualized instruction in 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variety of settings to acquire, maintain, and generalize skills to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(see TAKS-Alt Tool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4.  Accesses the TEKS through pre-requisite skills that are linke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o grade-level curriculum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5.  Demonstrates knowledge and skills in class by methods othe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han paper &amp; pencil tasks (see TAKS-Alt Tool for examples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eacher must provide evidenc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6.  Demonstrates performance/academic skills by applying the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o environments where the needed skill may naturally occur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9880" y="76320"/>
            <a:ext cx="635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AKS-Alt Decision 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4040" y="968400"/>
            <a:ext cx="7728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hese are new as of January 20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*ARDs completed prior to January 2011 – refer 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he old classroom accommodation list provid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for you in your Accommodation Manu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*ARDs completed as of January 2011 – refer 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he new classroom accommodation list provid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o you in this train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*State Testing Accommodation codes remain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he sa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46800" y="212760"/>
            <a:ext cx="798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New Classroom Accommodation Codes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95560" y="968400"/>
            <a:ext cx="706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Please ask Jenni Murphy, Elena Merenova, or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Jeanne Harding if you have any question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Regarding this training or any other ARD or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esting related question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212760"/>
            <a:ext cx="228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Questions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840" y="3200400"/>
            <a:ext cx="735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Come to all ARDs prepared with all of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the proper documentatio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03:00Z</dcterms:created>
  <dc:creator>bisd</dc:creator>
  <dc:description/>
  <dc:language>en-US</dc:language>
  <cp:lastModifiedBy>bisd</cp:lastModifiedBy>
  <dcterms:modified xsi:type="dcterms:W3CDTF">2011-01-26T02:19:57Z</dcterms:modified>
  <cp:revision>4</cp:revision>
  <dc:subject/>
  <dc:title>Slide 1</dc:title>
</cp:coreProperties>
</file>